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57DE-13E3-4852-A828-64DB2C93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56F-7AC8-4466-BE63-578FC6E7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671C-5CA9-4EFD-B705-2EDBCCBD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054A-9667-43C4-A56D-3149CB6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6839-31ED-4459-9A9D-6AD7FD27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DB0A-E853-4F30-882A-7317308A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7974-50D8-4C16-88F5-D0578BB6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C698-003A-412C-A4B1-415CD8CD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20DE-232E-4BD3-A0C7-86B504CE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B517-011B-4ED6-8201-C67D174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7AE1-C281-4A9A-97EF-526CBA3F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9F77-929F-48DF-9DC0-7FEF48BD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7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15120" y="6414840"/>
            <a:ext cx="1249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bbfa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9B1F-512F-4E35-80E3-54D0479ADE7E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33440" y="6414840"/>
            <a:ext cx="73440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7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9848520" y="6322680"/>
            <a:ext cx="148284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11e47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4460-C786-41D2-A880-C900B5D5F95F}" type="datetime3">
              <a:rPr b="0" lang="en-US" sz="1600" spc="-1" strike="noStrike">
                <a:solidFill>
                  <a:srgbClr val="111e47"/>
                </a:solidFill>
                <a:latin typeface="Arial"/>
                <a:ea typeface="Arial"/>
              </a:rPr>
              <a:t>July 29,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7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9915120" y="6414840"/>
            <a:ext cx="1249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bbfa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B3B3-34EC-4608-B532-FAB2CB092733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2233440" y="6414840"/>
            <a:ext cx="73440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11301120" y="6414840"/>
            <a:ext cx="73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1e4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| </a:t>
            </a:r>
            <a:fld id="{0D9551F8-5F9C-4D1D-98B5-D9BE53343510}" type="slidenum"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79120" y="1328400"/>
            <a:ext cx="858204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11e47"/>
              </a:solidFill>
              <a:latin typeface="Arial"/>
              <a:ea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79120" y="3503520"/>
            <a:ext cx="858204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bfab"/>
              </a:solidFill>
              <a:latin typeface="Arial"/>
              <a:ea typeface="Arial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9848880" y="6323040"/>
            <a:ext cx="14828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9DB-9A09-42AC-85B0-7EA35249B060}" type="datetime3">
              <a:rPr b="0" lang="en-US" sz="1600" spc="-1" strike="noStrike">
                <a:solidFill>
                  <a:srgbClr val="111e47"/>
                </a:solidFill>
                <a:latin typeface="Arial"/>
                <a:ea typeface="Arial"/>
              </a:rPr>
              <a:t>July 29, 2026</a:t>
            </a:fld>
            <a:endParaRPr b="0" lang="en-US" sz="16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61640"/>
            <a:ext cx="10515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e47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488600"/>
            <a:ext cx="1051560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e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9915480" y="6415200"/>
            <a:ext cx="1249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EAA-63E0-47D4-94F2-F2BAD0631379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1301480" y="6415200"/>
            <a:ext cx="733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| </a:t>
            </a:r>
            <a:fld id="{DA954B38-0F6A-40FC-A573-AC380946B362}" type="slidenum"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61640"/>
            <a:ext cx="10515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e47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488600"/>
            <a:ext cx="1051560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e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9915480" y="6415200"/>
            <a:ext cx="1249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A37-2252-467C-B9A9-B09907FD16FF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1301480" y="6415200"/>
            <a:ext cx="733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| </a:t>
            </a:r>
            <a:fld id="{96BD2C1E-7469-4DE7-8770-DF3A7A24BAFD}" type="slidenum"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4T11:41:21Z</dcterms:created>
  <dc:creator>Rusne</dc:creator>
  <dc:description/>
  <dc:language>en-US</dc:language>
  <cp:lastModifiedBy>Rusne</cp:lastModifiedBy>
  <dcterms:modified xsi:type="dcterms:W3CDTF">2020-03-04T11:43:57Z</dcterms:modified>
  <cp:revision>3</cp:revision>
  <dc:subject/>
  <dc:title>PowerPoint Presentation</dc:title>
</cp:coreProperties>
</file>