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FA8F-8255-4446-9260-21932F81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14EB-F163-48EE-8969-0797EEDB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1F12-F78E-44DD-916C-D95DCBC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7EA2-B8B5-47F8-84AF-11C3197F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2524-9942-4235-A7B1-15CAAF4F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7CE5-CEB8-4355-9EA2-2E5A3538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83C5-0F11-40D2-BF9A-04835598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9B29-D1FA-4631-B4A5-98E76F8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ECE-EEE4-4250-9463-B941AB6A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89AC-CC8F-434F-806B-B1C4FF8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2884-F0CD-41AE-A880-58C099F4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4919-75FF-4B53-A8E3-F22E7666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7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15120" y="6414840"/>
            <a:ext cx="1249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bbfa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10EA-DC6A-4080-8F88-EB9F1204403B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33440" y="6414840"/>
            <a:ext cx="73440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7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9848520" y="6322680"/>
            <a:ext cx="148284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11e47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B365-1C63-43B7-B435-F3D9BC811C09}" type="datetime3">
              <a:rPr b="0" lang="en-US" sz="1600" spc="-1" strike="noStrike">
                <a:solidFill>
                  <a:srgbClr val="111e47"/>
                </a:solidFill>
                <a:latin typeface="Arial"/>
                <a:ea typeface="Arial"/>
              </a:rPr>
              <a:t>July 29,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7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e7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d7e7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7f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9915120" y="6414840"/>
            <a:ext cx="1249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bbfa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6F33-FD79-47C1-A266-3F698F88F85C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2233440" y="6414840"/>
            <a:ext cx="73440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11301120" y="6414840"/>
            <a:ext cx="73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1e4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| </a:t>
            </a:r>
            <a:fld id="{FAC5DC84-E8B4-48E6-9FDF-1BD1174B4C3F}" type="slidenum"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79120" y="1328400"/>
            <a:ext cx="858204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11e47"/>
              </a:solidFill>
              <a:latin typeface="Arial"/>
              <a:ea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79120" y="3503520"/>
            <a:ext cx="858204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bfab"/>
              </a:solidFill>
              <a:latin typeface="Arial"/>
              <a:ea typeface="Arial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9848880" y="6323040"/>
            <a:ext cx="14828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6D7C-4BEA-47FE-A377-7E7E86F18B7F}" type="datetime3">
              <a:rPr b="0" lang="en-US" sz="1600" spc="-1" strike="noStrike">
                <a:solidFill>
                  <a:srgbClr val="111e47"/>
                </a:solidFill>
                <a:latin typeface="Arial"/>
                <a:ea typeface="Arial"/>
              </a:rPr>
              <a:t>July 29, 2026</a:t>
            </a:fld>
            <a:endParaRPr b="0" lang="en-US" sz="16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61640"/>
            <a:ext cx="10515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e47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488600"/>
            <a:ext cx="1051560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e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9915480" y="6415200"/>
            <a:ext cx="1249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191-D9E7-4158-9D79-9A2C76AB772B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1301480" y="6415200"/>
            <a:ext cx="733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| </a:t>
            </a:r>
            <a:fld id="{B878E808-5623-44D9-A1A3-7E3A220C44F6}" type="slidenum"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61640"/>
            <a:ext cx="10515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e47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488600"/>
            <a:ext cx="10515600" cy="41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e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9915480" y="6415200"/>
            <a:ext cx="1249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A065-ED29-460B-830C-3AA08B44FBC2}" type="datetime3">
              <a:rPr b="0" lang="en-US" sz="1200" spc="-1" strike="noStrike">
                <a:solidFill>
                  <a:srgbClr val="3bbfab"/>
                </a:solidFill>
                <a:latin typeface="Arial"/>
                <a:ea typeface="Arial"/>
              </a:rPr>
              <a:t>July 29, 2026</a:t>
            </a:fld>
            <a:endParaRPr b="0" lang="en-US" sz="1200" spc="-1" strike="noStrike">
              <a:solidFill>
                <a:srgbClr val="d7e7f6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1301480" y="6415200"/>
            <a:ext cx="733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| </a:t>
            </a:r>
            <a:fld id="{717CE3D7-D4B8-4F99-9C94-36CC759AA499}" type="slidenum">
              <a:rPr b="0" lang="en-US" sz="1400" spc="-1" strike="noStrike">
                <a:solidFill>
                  <a:srgbClr val="111e4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d7e7f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4T11:41:21Z</dcterms:created>
  <dc:creator>Rusne</dc:creator>
  <dc:description/>
  <dc:language>en-US</dc:language>
  <cp:lastModifiedBy>Rusne</cp:lastModifiedBy>
  <dcterms:modified xsi:type="dcterms:W3CDTF">2020-03-04T11:43:57Z</dcterms:modified>
  <cp:revision>3</cp:revision>
  <dc:subject/>
  <dc:title>PowerPoint Presentation</dc:title>
</cp:coreProperties>
</file>